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505-8ED2-428E-AD4A-8CEA9965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6D2D-AE7B-4F2A-A047-FF089ECE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4E8-C0A4-40F2-AE59-E57C808D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6673-D653-4DF7-B11A-62B26EEC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A41F-2AFD-477C-AB9D-16D74AB9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24EA-C992-4C36-94DC-156938D4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D1FD-1CD5-4CD3-AA61-A6742F4D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42AC-27F0-45E2-858D-1EA5D17A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AD4E-5CD2-449C-8F07-E08D727D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BEBC-568D-4AA8-9DDD-EFCF1E46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2943-B14D-4F54-978E-A1439F57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EDC-5610-40F7-94F4-13D36341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2CAC-002E-4DBC-81E7-8AD5E258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5CD0-8A95-4DC1-ACC0-CFAA07AA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4053-A706-444C-8DAF-10EFF18D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55E1-CACA-487B-90E8-FF4BA661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1A56-6CAC-4EAC-9571-A592716E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DF62-D6AB-4374-8F7D-BBCA442E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FDBD-5FE3-43DA-8978-73BD152C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A5D-23BE-452F-9EDE-0C804397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F20-7CD8-4E04-A2A1-9D2B74D3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5661-F4B9-4B03-891A-257F0D1B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239B-DAF8-4B35-8DF8-0B149DB7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078E-F416-479D-BC15-8BFFF4DE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3817-1CFB-4923-BE1D-64C0070088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F1AA-CC7E-4D5D-8C68-4A1C748F88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acherdolphins.wikispaces.com/Student+Assistanc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Student Assistance Team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you ever wanted to know and probably some stuff you did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rst Meeting with Referring Teach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SA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describes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o complete RE-1 (RE-1 = Regular Education form, also called the “Focus of Concern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 completes the parent contact record (Section I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 must document at least TWO contacts/attempts when information has been shared with the parents about the specific concerns that led to the refer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current interventions on interven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 at least TWO specific interven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rst Meeting with Teacher,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how to get RE-2 to parents (RE-2 = Regular Education form, also called “Parental Notification of Screening Procedure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tate form that notifies parents of the screening process.  This form MUST be sent home before any screening procedures take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NOT send home an RE-2 if the SAT referral has not been discussed with the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ther detail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2 specific TARGET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an observation in the classroom within 1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uspected LD, EC teacher required to obse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uspected Language issue, helpful for SLP to observe, but not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if anyone else needs to be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when next to meet to discuss obser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ortance of Specifying a Target Behavi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o specify and use objective and precise descriptions so that anyone would know what to look f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electing target behavior(s) to address, consi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bothersome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siest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havior that generalizes to oth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votal behavior which influences other behav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s of specifying target behavior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is just imposs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cks his foot out and trips students 5 times a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nifer is so scatte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d not turn in homework for 3 out of 5 days thi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ie is so imma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n’t share things in class and cries when 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esn’t get his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is so ADH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 to the pencil sharpener 3 times during a 5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ut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1, cont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ation comple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 to share obser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written obser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other relevan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de:  close referral because concerns have been resolved OR develop intervention pl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2:  SAT meeting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 meets with referring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pproximately </a:t>
            </a:r>
            <a:r>
              <a:rPr b="1" lang="en-US" sz="2800" spc="-1" strike="noStrike" u="sng">
                <a:solidFill>
                  <a:srgbClr val="7e9ce8"/>
                </a:solidFill>
                <a:uFillTx/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utes, the following information is presen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from cumulative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classroom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strategies already attem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hared by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2:  SAT meeting!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 makes a decision on what to do next with the referr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 – close referral because concern has been resol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urrent intervention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RE paper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ferral on SAT referral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utcome with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– Proceed to step 3 in order to develop an interventio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3:  Develop the Intervention Plan if Nee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initial meeting the Intervention Plan is develo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steps when developing the intervention pl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 on target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no more that 2 target behav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 to identify possible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ules for Brainstorming Ideas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goes!  Don’t hol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own every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piggy backing on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critique or comment about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establish eye contact with referring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ent is okay for 30 seconds.  After 30 seconds, have recorder read the list alo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Purpose &amp; Goal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f SAT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POSE – address student problems by LEARNING MORE about the student and implementing a plan to help the stud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 – to intervene and help student AND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3:  Intervention plan, cont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ring teacher selects 2-3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1 or 2 target behaviors to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responsible and irresponsible behaviors associated with the target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identify the reason for inappropriate behavior so you can match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e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See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ful/Hab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4:  Implement the Intervention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wo ways to know if the Intervention Plan is work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 date when plan will st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 follow-up dates to check the status of the pl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e a case update with SAT within 4-6 week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 how parents will be inform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4:  Evaluate Outcomes of Intervention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 and referring teacher review the data in a </a:t>
            </a:r>
            <a:r>
              <a:rPr b="1" lang="en-US" sz="3200" spc="-1" strike="noStrike" u="sng">
                <a:solidFill>
                  <a:srgbClr val="7e9ce8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ute upd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data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outcomes of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ny new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what impacted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if to continue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ting the Intervention Plan,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AT has 2 op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the referral if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Intervention Plan and schedule another update with SAT (within 2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5:  Review Data and Close the Referral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 meets with the referring teacher for </a:t>
            </a:r>
            <a:r>
              <a:rPr b="1" lang="en-US" sz="2800" spc="-1" strike="noStrike" u="sng">
                <a:solidFill>
                  <a:srgbClr val="7e9ce8"/>
                </a:solidFill>
                <a:uFillTx/>
                <a:latin typeface="Arial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T revi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on Interven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additional information/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view of data, SAT has 2 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he referral if successful or referring for other services (not E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 the student to IEP Team if suspect EC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osing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e9ce8"/>
                </a:solidFill>
                <a:uFillTx/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 decides to refer the student to the IEP team, steps in referring the student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RE paper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the SAT’s decision to refer the student to determine EC eligibility with the parent and securing the parent’s support of this dec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the closing of the referral on the SAT referral 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…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was adapted from a presentation given by Mike Booher to employees of Orange County Schools and Chapel Hill/Carrboro Schools on November 22, 2004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PLEASE REMEMBER!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 is NOT part of the EC process nor is it designed to keep kids out of 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, in this age of accountability, evidence-based interventions become a key component for EC definitions and cri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we want to talk about today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pose and Goal of S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Process for Handling Referr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line for Referr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do a quality refer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other information you would like to ha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eneral Process for Handling Referrals – 6 Steps!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 and investigate refer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data collection and determine if intervention plan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intervention plan if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intervention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outcomes of intervention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 intervention plan and try again or close refer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meline for SAT referrals: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43000" y="1676520"/>
          <a:ext cx="6400800" cy="4560840"/>
        </p:xfrm>
        <a:graphic>
          <a:graphicData uri="http://schemas.openxmlformats.org/drawingml/2006/table">
            <a:tbl>
              <a:tblPr/>
              <a:tblGrid>
                <a:gridCol w="1905120"/>
                <a:gridCol w="4495680"/>
              </a:tblGrid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of Time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&amp; 2:  receive and investigate referral and decide if intervention plan is need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4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&amp; 4 Develop, implement, and evaluate intervention pla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mi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&amp; 6:  Revise intervention plan and/or close refer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EP 1:  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Referral Initiated and Investigated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ral is given to SAT coordina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can refer a stud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ing a parent request/refer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important questions need to be answered on referral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763560">
              <a:spcBef>
                <a:spcPts val="601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concer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763560">
              <a:spcBef>
                <a:spcPts val="601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s been tried by the teac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76356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s been shared with parents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Do I Get the Referral Form?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T:\ Drive (Staff)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My Compu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Network Drive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click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taff$ on ‘HES1’ (T: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Common Files and Docu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tudent Assistance Te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HES Teacher Dolphins Wikispa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teacherdolphins.wikispaces.com/Student+Assista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Melis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1, cont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ordinator creates folder, identifies potential closure date, and records referral on a referral lo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es meeting with referring teacher in classro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fore meeting, reviews refer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ring and vision scree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ews cumulative fold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6:39:32Z</dcterms:created>
  <dc:creator> </dc:creator>
  <dc:description/>
  <dc:language>en-US</dc:language>
  <cp:lastModifiedBy>melissa.denney</cp:lastModifiedBy>
  <dcterms:modified xsi:type="dcterms:W3CDTF">2010-07-21T16:43:07Z</dcterms:modified>
  <cp:revision>10</cp:revision>
  <dc:subject/>
  <dc:title>Student Assistant Team </dc:title>
</cp:coreProperties>
</file>