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168-8DAC-44E6-8C7C-2FEFE350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10B-0D72-4B6F-B614-966233A4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971-7EE9-4BD1-8483-77CF7444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383-D5C6-4CD4-9317-2472F36F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501B-D478-4AAD-ADA9-04EDEA31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888D-104B-4013-A568-E64CC9B2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CBD3-40C4-4F7B-9279-D5F0BEB5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F3DB-9F5D-4261-BD21-ED5B4C02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6101-4A2B-4120-A7F6-6FF0DD7D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34DC-D922-46EE-AE29-18C46766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47B3-78B6-46B2-BEF8-4BD1D3E3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ABB-CF31-468B-BEDD-B6E69225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F7DA-0264-46FC-9E94-96BBF23D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A9EE-4E5B-4E72-9A29-93724DC9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AC00-CC02-4BB9-A71A-515691AC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1813-2ADA-439B-B7D7-C0E7F9AB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11A5-B6FA-4836-AC51-FFCDC709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F2A-C889-4EA7-969B-8D87DA83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E95-AD5F-43B6-B68B-C58D4B28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4FE-8F50-437E-AF10-3182DB8B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F25-791B-44D8-B2F1-BCB25B2D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BE2-072F-48E1-97F3-30656FB0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612-8B44-4B47-B751-7ECC3187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7CA-6D14-4EF9-BE23-FEF18ABE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EEAC-3CC1-437F-9A35-848822C410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3761-CDF9-488F-86E5-61870F5AB6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erdolphins.wikispaces.com/Student+Assista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Student Assistance Team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you ever wanted to know and probably some stuff you did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 Meeting with Referring Teach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SA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describes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o complete RE-1 (RE-1 = Regular Education form, also called the “Focus of Concern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 completes the parent contact record (Section 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 must document at least TWO contacts/attempts when information has been shared with the parents about the specific concerns that led to the refer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current interventions on interven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t least TWO specific interven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 Meeting with Teacher,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how to get RE-2 to parents (RE-2 = Regular Education form, also called “Parental Notification of Screening Procedure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tate form that notifies parents of the screening process.  This form MUST be sent home before any screening procedures take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NOT send home an RE-2 if the SAT referral has not been discussed with the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ther detai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2 specific TARGET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an observation in the classroom within 1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uspected LD, EC teacher required to obs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uspected Language issue, helpful for SLP to observe, but not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if anyone else needs to be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en next to meet to discuss obser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ortance of Specifying a Target Behavi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specify and use objective and precise descriptions so that anyone would know what to look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electing target behavior(s) to address, 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bothersom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siest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havior that generalizes to oth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votal behavior which influences other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s of specifying target behavior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is just imposs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s his foot out and trips students 5 times a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ifer is so scatte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d not turn in homework for 3 out of 5 days thi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ie is so imma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n’t share things in class and cries when 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esn’t get hi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is so ADH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 to the pencil sharpener 3 times during a 5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ut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1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tion comple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 to share obser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written obser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other relevan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de:  close referral because concerns have been resolved OR develop intervention pl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2:  SAT meeting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 meets with referring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pproximately </a:t>
            </a: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utes, the following information is presen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from cumulative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classroom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trategies already attem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hared by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2:  SAT meeting!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 makes a decision on what to do next with the referr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– close referral because concern has been resol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urrent interven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RE paper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ferral on SAT referral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utcome with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– Proceed to step 3 in order to develop an interventio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3:  Develop the Intervention Plan if Nee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initial meeting the Intervention Plan is develo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steps when developing the intervention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 on target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o more that 2 target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 to identify possibl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ules for Brainstorming Idea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goes!  Don’t hol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every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piggy backing on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ritique or comment about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establish eye contact with referring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ent is okay for 30 seconds.  After 30 seconds, have recorder read the list alo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urpose &amp; Goal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f SA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E – address student problems by LEARNING MORE about the student and implementing a plan to help the stud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– to intervene and help student AND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3:  Intervention plan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ing teacher selects 2-3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1 or 2 target behaviors to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responsible and irresponsible behaviors associated with the target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identify the reason for inappropriate behavior so you can match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e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See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ful/Hab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4:  Implement the Intervention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wo ways to know if the Intervention Plan is work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date when plan will 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follow-up dates to check the status of the pl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e a case update with SAT within 4-6 week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how parents will be inform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4:  Evaluate Outcomes of Intervention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 and referring teacher review the data in a </a:t>
            </a:r>
            <a:r>
              <a:rPr b="1" lang="en-US" sz="3200" spc="-1" strike="noStrike" u="sng">
                <a:solidFill>
                  <a:srgbClr val="7e9ce8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ute up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data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outcomes of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y new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what impacted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if to continue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ting the Intervention Plan,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AT has 2 op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he referral if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Intervention Plan and schedule another update with SAT (within 2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5:  Review Data and Close the Referral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 meets with the referring teacher for </a:t>
            </a: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T revi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n Interven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additional information/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view of data, SAT has 2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referral if successful or referring for other services (not E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 the student to IEP Team if suspect EC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osing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 decides to refer the student to the IEP team, steps in referring the student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RE paper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the SAT’s decision to refer the student to determine EC eligibility with the parent and securing the parent’s support of this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the closing of the referral on the SAT referral 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…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was adapted from a presentation given by Mike Booher to employees of Orange County Schools and Chapel Hill/Carrboro Schools on November 22, 2004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LEASE REMEMBER!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 is NOT part of the EC process nor is it designed to keep kids out of 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in this age of accountability, evidence-based interventions become a key component for EC definitions and cri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we want to talk about today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pose and Goal of S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Process for Handling Referr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line for Referr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do a quality refer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other information you would like to ha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l Process for Handling Referrals – 6 Steps!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and investigate refer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data collection and determine if intervention plan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intervention plan if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intervention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outcomes of intervention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intervention plan and try again or close refer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meline for SAT referrals: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43000" y="1676520"/>
          <a:ext cx="6400800" cy="4560840"/>
        </p:xfrm>
        <a:graphic>
          <a:graphicData uri="http://schemas.openxmlformats.org/drawingml/2006/table">
            <a:tbl>
              <a:tblPr/>
              <a:tblGrid>
                <a:gridCol w="1905120"/>
                <a:gridCol w="4495680"/>
              </a:tblGrid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Time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&amp; 2:  receive and investigate referral and decide if intervention plan is need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4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&amp; 4 Develop, implement, and evaluate intervention pla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mi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&amp; 6:  Revise intervention plan and/or close refer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EP 1:  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eferral Initiated and Investigated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ral is given to SAT coordina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n refer a stud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ing a parent request/refer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important questions need to be answered on referral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601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conce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601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s been tried by the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s been shared with parent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Do I Get the Referral Form?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T:\ Drive (Staff)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My Compu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Network Driv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click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taff$ on ‘HES1’ (T: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Common Files and Docu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tudent Assistance T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HES Teacher Dolphins Wikispa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teacherdolphins.wikispaces.com/Student+Assista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Melis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1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rdinator creates folder, identifies potential closure date, and records referral on a referral lo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es meeting with referring teacher in class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fore meeting, reviews refer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ring and vision scree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s cumulative fold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6:39:32Z</dcterms:created>
  <dc:creator> </dc:creator>
  <dc:description/>
  <dc:language>en-US</dc:language>
  <cp:lastModifiedBy>melissa.denney</cp:lastModifiedBy>
  <dcterms:modified xsi:type="dcterms:W3CDTF">2010-07-21T16:43:07Z</dcterms:modified>
  <cp:revision>10</cp:revision>
  <dc:subject/>
  <dc:title>Student Assistant Team </dc:title>
</cp:coreProperties>
</file>