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BDF9-04CC-4F42-9891-94BCE97A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2F8-810C-402B-9DEF-234C7EE2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53B9-948A-44BA-85D6-E22A7493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23D-EF06-46F2-B5EA-4CF061AF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04BB-535F-4EFE-9AE5-BA2D0FA9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3819-CABA-4E1B-A391-65060783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07BE-5B6D-41C7-BB9C-0570F1B9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B6DD-87C1-42B1-8255-0A572FF0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5CC4-18AC-47B2-ABA4-FAA6EC9C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BB8B-162F-40AE-9BE9-FC3F24D2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855F-25BD-4B43-BDC5-1DF357D7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754-B67E-4C22-9619-38A6FA4F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97E4-8044-4111-B736-177456E4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4D80-672D-456D-A813-737BCD40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CCF6-674E-4374-9A65-A348D15E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72A7-D08F-4632-9FD7-9BAAB52C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A7B3-A8D8-4B99-A4CA-82109C68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978-0461-43EE-9E9F-EB5D3DCF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E662-9EBF-464D-B6C1-BC7BCF42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B001-6698-4658-81C2-68DDE224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500-3B80-4C94-8D20-75928FA0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FC0-815F-4C89-BA42-7F1967FF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921-7829-4175-A4D3-09A06F63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A4A7-EC6F-4C35-AFA1-3AFCB72C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26A0-6E45-4C12-8808-DD64959324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BD92-65BE-4230-96A7-E464491CEA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erdolphins.wikispaces.com/Student+Assistanc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Student Assistance Team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you ever wanted to know and probably some stuff you did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rst Meeting with Referring Teach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SA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describes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o complete RE-1 (RE-1 = Regular Education form, also called the “Focus of Concern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 completes the parent contact record (Section 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 must document at least TWO contacts/attempts when information has been shared with the parents about the specific concerns that led to the refer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current interventions on interven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at least TWO specific interven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rst Meeting with Teacher,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how to get RE-2 to parents (RE-2 = Regular Education form, also called “Parental Notification of Screening Procedure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tate form that notifies parents of the screening process.  This form MUST be sent home before any screening procedures take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NOT send home an RE-2 if the SAT referral has not been discussed with the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ther detail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2 specific TARGET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an observation in the classroom within 1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uspected LD, EC teacher required to obs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uspected Language issue, helpful for SLP to observe, but not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if anyone else needs to be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when next to meet to discuss obser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ortance of Specifying a Target Behavi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specify and use objective and precise descriptions so that anyone would know what to look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electing target behavior(s) to address, cons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bothersom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siest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havior that generalizes to oth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votal behavior which influences other behav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s of specifying target behavior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is just imposs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s his foot out and trips students 5 times a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ifer is so scatte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d not turn in homework for 3 out of 5 days thi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ie is so imma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n’t share things in class and cries when 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esn’t get his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is so ADH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 to the pencil sharpener 3 times during a 5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ut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1, cont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ation comple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 to share obser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written obser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other relevan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de:  close referral because concerns have been resolved OR develop intervention pl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2:  SAT meeting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 meets with referring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pproximately </a:t>
            </a:r>
            <a:r>
              <a:rPr b="1" lang="en-US" sz="2800" spc="-1" strike="noStrike" u="sng">
                <a:solidFill>
                  <a:srgbClr val="7e9ce8"/>
                </a:solidFill>
                <a:uFillTx/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utes, the following information is presen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from cumulative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classroom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strategies already attem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hared by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2:  SAT meeting!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 makes a decision on what to do next with the referr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– close referral because concern has been resol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urrent intervention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RE paper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ferral on SAT referral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utcome with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– Proceed to step 3 in order to develop an interventio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3:  Develop the Intervention Plan if Nee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initial meeting the Intervention Plan is develo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steps when developing the intervention p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 on target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no more that 2 target behav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 to identify possibl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ules for Brainstorming Idea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goes!  Don’t hol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own every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piggy backing on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critique or comment about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establish eye contact with referring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ent is okay for 30 seconds.  After 30 seconds, have recorder read the list alo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urpose &amp; Goal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f SA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E – address student problems by LEARNING MORE about the student and implementing a plan to help the stud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 – to intervene and help student AND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3:  Intervention plan, cont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ring teacher selects 2-3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1 or 2 target behaviors to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responsible and irresponsible behaviors associated with the target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identify the reason for inappropriate behavior so you can match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e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See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ful/Hab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4:  Implement the Intervention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wo ways to know if the Intervention Plan is work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date when plan will 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follow-up dates to check the status of the pl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e a case update with SAT within 4-6 week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how parents will be inform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4:  Evaluate Outcomes of Intervention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 and referring teacher review the data in a </a:t>
            </a:r>
            <a:r>
              <a:rPr b="1" lang="en-US" sz="3200" spc="-1" strike="noStrike" u="sng">
                <a:solidFill>
                  <a:srgbClr val="7e9ce8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ute upd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data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outcomes of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ny new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what impacted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if to continue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ting the Intervention Plan,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AT has 2 op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the referral if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Intervention Plan and schedule another update with SAT (within 2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5:  Review Data and Close the Referral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 meets with the referring teacher for </a:t>
            </a:r>
            <a:r>
              <a:rPr b="1" lang="en-US" sz="2800" spc="-1" strike="noStrike" u="sng">
                <a:solidFill>
                  <a:srgbClr val="7e9ce8"/>
                </a:solidFill>
                <a:uFillTx/>
                <a:latin typeface="Arial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T revi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n Interven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additional information/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view of data, SAT has 2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he referral if successful or referring for other services (not E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 the student to IEP Team if suspect EC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osing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e9ce8"/>
                </a:solidFill>
                <a:uFillTx/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 decides to refer the student to the IEP team, steps in referring the student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RE paper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the SAT’s decision to refer the student to determine EC eligibility with the parent and securing the parent’s support of this d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the closing of the referral on the SAT referral 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…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was adapted from a presentation given by Mike Booher to employees of Orange County Schools and Chapel Hill/Carrboro Schools on November 22, 2004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LEASE REMEMBER!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 is NOT part of the EC process nor is it designed to keep kids out of 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in this age of accountability, evidence-based interventions become a key component for EC definitions and cri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we want to talk about today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pose and Goal of S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Process for Handling Referr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line for Referr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do a quality refer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other information you would like to ha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eral Process for Handling Referrals – 6 Steps!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and investigate refer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data collection and determine if intervention plan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intervention plan if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intervention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outcomes of intervention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 intervention plan and try again or close refer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meline for SAT referrals: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43000" y="1676520"/>
          <a:ext cx="6400800" cy="4560840"/>
        </p:xfrm>
        <a:graphic>
          <a:graphicData uri="http://schemas.openxmlformats.org/drawingml/2006/table">
            <a:tbl>
              <a:tblPr/>
              <a:tblGrid>
                <a:gridCol w="1905120"/>
                <a:gridCol w="4495680"/>
              </a:tblGrid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of Time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&amp; 2:  receive and investigate referral and decide if intervention plan is need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4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&amp; 4 Develop, implement, and evaluate intervention pla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mi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&amp; 6:  Revise intervention plan and/or close refer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EP 1:  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eferral Initiated and Investigated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ral is given to SAT coordina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can refer a stud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ing a parent request/refer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important questions need to be answered on referral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763560">
              <a:spcBef>
                <a:spcPts val="601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concer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763560">
              <a:spcBef>
                <a:spcPts val="601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s been tried by the teac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76356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s been shared with parent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Do I Get the Referral Form?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T:\ Drive (Staff)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My Compu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Network Driv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click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taff$ on ‘HES1’ (T: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Common Files and Docu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tudent Assistance Te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HES Teacher Dolphins Wikispa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teacherdolphins.wikispaces.com/Student+Assista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Melis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1, cont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ordinator creates folder, identifies potential closure date, and records referral on a referral lo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es meeting with referring teacher in classro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fore meeting, reviews refer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ring and vision scree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s cumulative fold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6:39:32Z</dcterms:created>
  <dc:creator> </dc:creator>
  <dc:description/>
  <dc:language>en-US</dc:language>
  <cp:lastModifiedBy>melissa.denney</cp:lastModifiedBy>
  <dcterms:modified xsi:type="dcterms:W3CDTF">2010-07-21T16:43:07Z</dcterms:modified>
  <cp:revision>10</cp:revision>
  <dc:subject/>
  <dc:title>Student Assistant Team </dc:title>
</cp:coreProperties>
</file>