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E00-F4C2-4058-8AA1-C5C76203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E0D-8FD5-4DDC-A5B6-26543276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78A-A28F-4852-859D-3BD4204B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E01-809F-4CED-AD44-5B661E3B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EB7A-48CF-49F9-8A4F-41ED4A76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EC8C-D05E-4C31-8544-797E63A5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9816-F1A8-4E39-B835-E51DDB4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0C70-C91E-4846-8A92-F608522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C0D2-B400-4043-A14E-BA0FF6FD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1D28-F9E9-4103-AE87-1990E2A3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CAF8-2D8B-4CD1-BC50-73F330D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E98-C4D4-42EC-ABCA-2E3C1E5D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1DB4-D5CE-4C6C-BFA5-7917575D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9046-CF06-4C02-871E-72413703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27D5-88DB-4D5D-B24C-7AEB100B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056A-6E68-41E9-B432-4152EF36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B200-8A9B-471E-BA30-A5E51164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BFB-DB60-4880-9ACC-05A8D30F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6A9-841D-44C4-B8DE-D8868136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5D0-0577-4C94-A38A-EDFDEE7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EC1-0C78-4A48-BB02-2136982A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A89-5318-469E-B283-FCF99E7B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2FC-0069-498E-A108-DBF1FE4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D76-9F32-405A-9C84-3759866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7323-2084-4F55-B79F-A9D36E56F7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35F6-E5C2-472E-8B50-CAAA7A0880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erdolphins.wikispaces.com/Student+Assista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tudent Assistance Team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you ever wanted to know and probably some stuff you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Referring Teach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A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describes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o complete RE-1 (RE-1 = Regular Education form, also called the “Focus of Concer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completes the parent contact record (Section 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must document at least TWO contacts/attempts when information has been shared with the parents about the specific concerns that led to the refer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current interventions on interven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t least TWO specific interven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Teacher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how to get RE-2 to parents (RE-2 = Regular Education form, also called “Parental Notification of Screening Procedur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tate form that notifies parents of the screening process.  This form MUST be sent home before any screening procedures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NOT send home an RE-2 if the SAT referral has not been discussed with th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detai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2 specific TARGET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an observation in the classroom within 1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D, EC teacher required to obs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anguage issue, helpful for SLP to observe, but not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anyone else needs to b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n next to meet to discuss ob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ortance of Specifying a Target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specify and use objective and precise descriptions so that anyone would know what to look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lecting target behavior(s) to address,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othersom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ies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that generalizes to oth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votal behavior which influences other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 of specifying target behavior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is just im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s his foot out and trips students 5 times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is so scatt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not turn in homework for 3 out of 5 days th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ie is so imma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n’t share things in class and cries when 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n’t get 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is so ADH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 to the pencil sharpener 3 times during a 5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ut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to share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written 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other releva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de:  close referral because concerns have been resolved OR develop intervention pl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pproximately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utes, the following information is pres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rom cumulative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classroom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rategies already attem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ared by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 makes a decision on what to do next with the referr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– close referral because concern has been resol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urrent interven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ferral on SAT referral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utcome with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– Proceed to step 3 in order to develop an intervent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Develop the Intervention Plan if Nee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initial meeting the Intervention Plan is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eps when developing the intervention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on targe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more that 2 target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to identify possibl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ules for Brainstorming Idea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goes!  Don’t hol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every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piggy backing o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itique or comment abou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stablish eye contact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ent is okay for 30 seconds.  After 30 seconds, have recorder read the list a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urpose &amp; Goal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f S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 – address student problems by LEARNING MORE about the student and implementing a plan to help the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– to intervene and help student AND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Intervention plan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ing teacher selects 2-3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1 or 2 target behaviors to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sponsible and irresponsible behaviors associated with the target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identify the reason for inappropriate behavior so you can match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ful/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Implement the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wo ways to know if the Intervention Plan is wor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date when plan will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follow-up dates to check the status of the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 a case update with SAT within 4-6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how parents will be inform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Evaluate Outcomes of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and referring teacher review the data in a </a:t>
            </a:r>
            <a:r>
              <a:rPr b="1" lang="en-US" sz="3200" spc="-1" strike="noStrike" u="sng">
                <a:solidFill>
                  <a:srgbClr val="7e9ce8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ute up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utcomes of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new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at impacted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to continue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ng the Intervention Plan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T has 2 op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referral if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Intervention Plan and schedule another update with SAT (within 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5:  Review Data and Close the Referral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the referring teacher for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T revi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Inter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dditional information/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view of data, SAT has 2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referral if successful or referring for other services (not E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he student to IEP Team if suspect EC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sing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 decides to refer the student to the IEP team, steps in referring the stud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the SAT’s decision to refer the student to determine EC eligibility with the parent and securing the parent’s support of this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the closing of the referral on the SAT referral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…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was adapted from a presentation given by Mike Booher to employees of Orange County Schools and Chapel Hill/Carrboro Schools on November 22, 200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LEASE REMEMBER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is NOT part of the EC process nor is it designed to keep kids out of 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in this age of accountability, evidence-based interventions become a key component for EC definitions and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we want to talk about today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 and Goal of 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Process for Handling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line for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o a quality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ther information you would like to h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Process for Handling Referrals – 6 Steps!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and investigat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data collection and determine if intervention plan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ntervention plan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outcomes of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intervention plan and try again or clos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line for SAT referrals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1676520"/>
          <a:ext cx="6400800" cy="4560840"/>
        </p:xfrm>
        <a:graphic>
          <a:graphicData uri="http://schemas.openxmlformats.org/drawingml/2006/table">
            <a:tbl>
              <a:tblPr/>
              <a:tblGrid>
                <a:gridCol w="1905120"/>
                <a:gridCol w="4495680"/>
              </a:tblGrid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Time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&amp; 2:  receive and investigate referral and decide if intervention plan is nee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4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&amp; 4 Develop, implement, and evaluate intervention pla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m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&amp; 6:  Revise intervention plan and/or close refer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 1:  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ferral Initiated and Investigate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ral is given to SAT coordina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refer a stud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a parent request/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mportant questions need to be answered on refer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conce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tried by the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shared with paren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Do I Get the Referral Form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T:\ Drive (Staff)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My Compu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etwork Driv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aff$ on ‘HES1’ (T: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mmon Files and Docu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udent Assistanc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HES Teacher Dolphins Wikispa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eacherdolphins.wikispaces.com/Student+Assist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Meli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rdinator creates folder, identifies potential closure date, and records referral on a referral 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s meeting with referring teacher in class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meeting, reviews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ring and vision scre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s cumulative fol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6:39:32Z</dcterms:created>
  <dc:creator> </dc:creator>
  <dc:description/>
  <dc:language>en-US</dc:language>
  <cp:lastModifiedBy>melissa.denney</cp:lastModifiedBy>
  <dcterms:modified xsi:type="dcterms:W3CDTF">2010-07-21T16:43:07Z</dcterms:modified>
  <cp:revision>10</cp:revision>
  <dc:subject/>
  <dc:title>Student Assistant Team </dc:title>
</cp:coreProperties>
</file>