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38E-67A0-4B42-AA78-0E87E417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E37-361B-49ED-AB55-F5087F8D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1A8-0E24-4905-8CF5-90D3AB69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309-CF94-4190-8980-DC0EECED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4EF2-0189-4198-B673-6185002F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FD2F-3B77-4ED9-9755-071C942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FE13-5055-495F-A402-D438A906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48DB-41BD-4AE9-9D46-DC9C4D16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32F3-569E-4CB4-82CB-9507C55E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E0D7-3C0A-4463-8AAB-A2C9EDFE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AB61-23D8-46B7-9B07-B5D4D91D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906-0DB9-4D72-8571-237EF345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881E-C1E5-4C90-B538-31D0A30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DBC7-F022-4D4B-907B-D319AB05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5F34-16B4-4DEE-B7C9-CDA57465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4F5-4FD9-4434-B310-F77DEF98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5FEF-AE52-4FCB-BC3E-6D6CF9DB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3D6-F076-4357-A608-80BE5295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83E-630B-428B-99E3-85652657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CC2-DFF4-45EC-B9F0-3FD8FC56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BEE-E72A-4BF8-BB54-D09F930D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D21-96EB-4CF8-97C0-D664D684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6FB-F80E-4941-ADD6-BD8552C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BB5-4C9F-4AE6-AEEF-17AA24F7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9A30-8352-457A-8AE0-ED69240B11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3859-F7A7-4736-A726-6AC215BAAA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erdolphins.wikispaces.com/Student+Assista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Student Assistance Team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you ever wanted to know and probably some stuff you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Referring Teach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SA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describes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o complete RE-1 (RE-1 = Regular Education form, also called the “Focus of Concer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completes the parent contact record (Section I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 must document at least TWO contacts/attempts when information has been shared with the parents about the specific concerns that led to the refer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current interventions on interven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t least TWO specific interven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st Meeting with Teacher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how to get RE-2 to parents (RE-2 = Regular Education form, also called “Parental Notification of Screening Procedur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tate form that notifies parents of the screening process.  This form MUST be sent home before any screening procedures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NOT send home an RE-2 if the SAT referral has not been discussed with th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detai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2 specific TARGET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an observation in the classroom within 1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D, EC teacher required to obs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spected Language issue, helpful for SLP to observe, but not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anyone else needs to be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en next to meet to discuss ob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ortance of Specifying a Target Behavi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specify and use objective and precise descriptions so that anyone would know what to look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lecting target behavior(s) to address,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othersom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ies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that generalizes to oth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votal behavior which influences other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 of specifying target behavior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is just im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s his foot out and trips students 5 times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is so scatter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d not turn in homework for 3 out of 5 days th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ie is so imma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n’t share things in class and cries when 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esn’t get 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is so ADH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 to the pencil sharpener 3 times during a 5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ut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to share 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written 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other releva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de:  close referral because concerns have been resolved OR develop intervention pl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pproximately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utes, the following information is presen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rom cumulative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classroom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rategies already attem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shared by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2:  SAT meeting!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 makes a decision on what to do next with the referr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– close referral because concern has been resol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urrent interven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ferral on SAT referral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utcome with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– Proceed to step 3 in order to develop an intervent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Develop the Intervention Plan if Nee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initial meeting the Intervention Plan is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eps when developing the intervention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on target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more that 2 target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to identify possibl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ules for Brainstorming Idea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goes!  Don’t hol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every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piggy backing o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critique or comment abou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stablish eye contact with referring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ent is okay for 30 seconds.  After 30 seconds, have recorder read the list a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urpose &amp; Goal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f S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 – address student problems by LEARNING MORE about the student and implementing a plan to help the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 – to intervene and help student AND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3:  Intervention plan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ing teacher selects 2-3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1 or 2 target behaviors to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sponsible and irresponsible behaviors associated with the target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identify the reason for inappropriate behavior so you can match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ful/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Implement the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two ways to know if the Intervention Plan is work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date when plan will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follow-up dates to check the status of the pl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 a case update with SAT within 4-6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 how parents will be inform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4:  Evaluate Outcomes of Intervention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and referring teacher review the data in a </a:t>
            </a:r>
            <a:r>
              <a:rPr b="1" lang="en-US" sz="3200" spc="-1" strike="noStrike" u="sng">
                <a:solidFill>
                  <a:srgbClr val="7e9ce8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ute upd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data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outcomes of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ny new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at impacted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f to continue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ng the Intervention Plan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T has 2 op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referral if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Intervention Plan and schedule another update with SAT (within 2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5:  Review Data and Close the Referral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 meets with the referring teacher for </a:t>
            </a: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T revi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Inter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dditional information/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view of data, SAT has 2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referral if successful or referring for other services (not E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he student to IEP Team if suspect EC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sing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e9ce8"/>
                </a:solidFill>
                <a:uFillTx/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 decides to refer the student to the IEP team, steps in referring the stud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RE paper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the SAT’s decision to refer the student to determine EC eligibility with the parent and securing the parent’s support of this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the closing of the referral on the SAT referral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…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was adapted from a presentation given by Mike Booher to employees of Orange County Schools and Chapel Hill/Carrboro Schools on November 22, 200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LEASE REMEMBER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 is NOT part of the EC process nor is it designed to keep kids out of 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in this age of accountability, evidence-based interventions become a key component for EC definitions and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we want to talk about today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 and Goal of 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 Process for Handling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line for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o a quality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ther information you would like to h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Process for Handling Referrals – 6 Steps!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and investigat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data collection and determine if intervention plan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ntervention plan if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outcomes of intervention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intervention plan and try again or close refer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imeline for SAT referrals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1676520"/>
          <a:ext cx="6400800" cy="4560840"/>
        </p:xfrm>
        <a:graphic>
          <a:graphicData uri="http://schemas.openxmlformats.org/drawingml/2006/table">
            <a:tbl>
              <a:tblPr/>
              <a:tblGrid>
                <a:gridCol w="1905120"/>
                <a:gridCol w="4495680"/>
              </a:tblGrid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Time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&amp; 2:  receive and investigate referral and decide if intervention plan is need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4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&amp; 4 Develop, implement, and evaluate intervention pla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m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&amp; 6:  Revise intervention plan and/or close refer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STEP 1:  </a:t>
            </a:r>
            <a:br>
              <a:rPr sz="36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Referral Initiated and Investigate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ral is given to SAT coordina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refer a stud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a parent request/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77880">
              <a:spcBef>
                <a:spcPts val="700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mportant questions need to be answered on refer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concer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601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tried by the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76356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been shared with paren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ere Do I Get the Referral Form?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T:\ Drive (Staff)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My Compu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Network Driv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click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aff$ on ‘HES1’ (T: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mmon Files and Docu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udent Assistanc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HES Teacher Dolphins Wikispa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eacherdolphins.wikispaces.com/Student+Assist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Meli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ep 1, cont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rdinator creates folder, identifies potential closure date, and records referral on a referral lo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s meeting with referring teacher in class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meeting, reviews refer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ring and vision scre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s cumulative fold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6:39:32Z</dcterms:created>
  <dc:creator> </dc:creator>
  <dc:description/>
  <dc:language>en-US</dc:language>
  <cp:lastModifiedBy>melissa.denney</cp:lastModifiedBy>
  <dcterms:modified xsi:type="dcterms:W3CDTF">2010-07-21T16:43:07Z</dcterms:modified>
  <cp:revision>10</cp:revision>
  <dc:subject/>
  <dc:title>Student Assistant Team </dc:title>
</cp:coreProperties>
</file>