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D4A3-C228-43DB-A888-AB66B7636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at you have decided to come to the courses on technology.  I am making every effort to try to provide information and ideas that will be helpful for all grade levels.  And even if you find that some of the information does not apply to your children right now, what you are going to be learning and thinking about over the next few weeks should be applicable to all children as they move up in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the information/ideas/awarenesses I will be presenting to you are ones that I got from my class at state last semester, Literacy, Technolog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The class really changed my perspective on technology in the classroom and got me more excited about it, so I am hoping to expose you to some of the big ideas and see if we can become more comfortable with integrating technology in our teaching and for student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pack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TIC Cop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y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always be willing to help you complete the discussion board component.  If you want to stay after the sessions to make your first post, I will hang around to answer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ny questions during the sessions that you would like me to address, please let me know.  Also, you can jot down things on a sticky note that you would like for me to address in the next session.  I have packed our sessions with lots of information, so I want to do the best I can to stay on schedule, get everything I have planned in, and give you enough time to get into some of the technology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ntegration Continuum-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s/Wikispaces account and first post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ig Ah-has/Did you know video 1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discussion board componen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ickers on continu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our issues with integrating technology out in the o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teacher dolph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integrating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k-12 educators, I think it is important for us to think about the world we are sending our students into and to notice the changes that are happening in education.  And although changes in technology will be hard to predict, perhaps if we start using some of the newest technologies, our kids will be better prepared to adapt to fu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Did You Know Vide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have daily obstacles and challenges for integrating technology, this is the task we are being called to.  Through our discussions, we will continually examine why integrating technology and exposing students to innovations is an important role for us as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ime and “productivity” is a big issue.  But perhaps if we are looking at the bigger picture of what students will be able to do in the classroom in the future for teachers in the future, then while they are not producing a ton of work using technology, they are learning necessary technology skills they will need and be expect to us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ustified in having students use technology even though the amount of what they have produced for me at that moment may not be huge…at times we have to remind ourselves of the bigger picture for our students s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DC492-2227-4D06-BF0C-A6F43D118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13D75-C7B1-4076-BADC-3EEDFA356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B159-D6C8-4A5A-9B96-2626944D2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5EA8F-B899-4CC1-A391-A348DA04E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CDF55-76BA-4CE2-B867-FE8B85B8D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B24AB-633A-470F-9385-921B67017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18C07-BC99-40CE-9710-84FF9F1B0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9CF8-A8A7-4B0D-8C09-2B54EBA98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F5C56-3D36-4747-9AE9-CCC4137AD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6E35E-2FDA-40F4-BFDD-DE839447A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EA79F-C1C9-43F3-BBF8-0B78DECF2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078A5-8258-45FC-BA73-29A1BBCD0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A8F7B-9017-470F-9BF9-C28427D68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9241F-35DE-4A6A-A91E-3B5A4BBD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0E6A2-B4FE-486F-8D51-635E0FE71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CF960-E0CA-4141-AE02-8815544AF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426541-0724-4840-8073-B1D2AFEFB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9607-4178-4511-818E-22ED67D52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106B-F0EE-4424-A095-3D7919C3E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E17D9-D3FC-4F2D-A246-E76905BBF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9EF47-8ABE-4CE3-922C-BDD7E790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532C-9837-4D2D-B8AA-1F7F1782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CB2C-3A6E-4EDE-8C0B-3A3DE2E8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3BDA-CAB5-4C36-A964-D95182439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D27F-95C6-476A-BC5E-582CDF72C4E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A949-B018-4653-973A-711D6C46312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442520" y="3884760"/>
            <a:ext cx="7239240" cy="12952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1: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re do we currently stand with technology use and integration?</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99" name=""/>
          <p:cNvSpPr/>
          <p:nvPr/>
        </p:nvSpPr>
        <p:spPr>
          <a:xfrm>
            <a:off x="5943600" y="563868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6,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17" name="PlaceHolder 2"/>
          <p:cNvSpPr>
            <a:spLocks noGrp="1"/>
          </p:cNvSpPr>
          <p:nvPr>
            <p:ph/>
          </p:nvPr>
        </p:nvSpPr>
        <p:spPr>
          <a:xfrm>
            <a:off x="1295280" y="1676520"/>
            <a:ext cx="7313760" cy="503064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nefits</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 questions, bounce ideas off of colleague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d learning from session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possibilities for your classro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lement personal use of technology for learning</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additional CEU’s in Technology </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to do:</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 to: </a:t>
            </a:r>
            <a:r>
              <a:rPr b="0" lang="en-US" sz="2100" spc="-1" strike="noStrike" u="sng">
                <a:solidFill>
                  <a:srgbClr val="d03062"/>
                </a:solidFill>
                <a:uFillTx/>
                <a:latin typeface="Verdana"/>
                <a:hlinkClick r:id="rId1"/>
              </a:rPr>
              <a:t>http://teacherdolphins.wikispaces.c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 response to discussion thread for the current session</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 in Later to Respond to a Colleague (or two's) though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genda for Sessions</a:t>
            </a:r>
            <a:r>
              <a:rPr b="0" lang="en-US" sz="3600" spc="-1" strike="noStrike">
                <a:solidFill>
                  <a:srgbClr val="542f79"/>
                </a:solidFill>
                <a:latin typeface="Arial"/>
              </a:rPr>
              <a:t> </a:t>
            </a:r>
            <a:endParaRPr b="0" lang="en-US" sz="3600" spc="-1" strike="noStrike">
              <a:solidFill>
                <a:srgbClr val="542f79"/>
              </a:solidFill>
              <a:latin typeface="Arial"/>
            </a:endParaRPr>
          </a:p>
        </p:txBody>
      </p:sp>
      <p:sp>
        <p:nvSpPr>
          <p:cNvPr id="101" name="PlaceHolder 2"/>
          <p:cNvSpPr>
            <a:spLocks noGrp="1"/>
          </p:cNvSpPr>
          <p:nvPr>
            <p:ph/>
          </p:nvPr>
        </p:nvSpPr>
        <p:spPr>
          <a:xfrm>
            <a:off x="1143000" y="1599840"/>
            <a:ext cx="7238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Introduction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ere are we in technolog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1st Century Skill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ology Standard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Personal Digital Librar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is del.icio.u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 What is a Wiki?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riting Across Curriculum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are the possibili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Creating our Wiki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Using student roles for Collabor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Conclusions/Lingering Questions/Next Step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oving “</a:t>
            </a:r>
            <a:r>
              <a:rPr b="1" i="1" lang="en-US" sz="2000" spc="-1" strike="noStrike">
                <a:solidFill>
                  <a:srgbClr val="000000"/>
                </a:solidFill>
                <a:latin typeface="Verdana"/>
              </a:rPr>
              <a:t>Towards a Theory of New Literacies</a:t>
            </a:r>
            <a:r>
              <a:rPr b="1"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
          <p:cNvSpPr/>
          <p:nvPr/>
        </p:nvSpPr>
        <p:spPr>
          <a:xfrm>
            <a:off x="762120" y="762120"/>
            <a:ext cx="75438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echnology Integration Continuu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r>
              <a:rPr b="1" lang="en-US" sz="6000" spc="-1" strike="noStrike">
                <a:solidFill>
                  <a:srgbClr val="000000"/>
                </a:solidFill>
                <a:latin typeface="Arial"/>
              </a:rPr>
              <a:t> Apprehension Sca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Goals</a:t>
            </a:r>
            <a:endParaRPr b="0" lang="en-US" sz="4800" spc="-1" strike="noStrike">
              <a:solidFill>
                <a:srgbClr val="542f79"/>
              </a:solidFill>
              <a:latin typeface="Arial"/>
            </a:endParaRPr>
          </a:p>
        </p:txBody>
      </p:sp>
      <p:sp>
        <p:nvSpPr>
          <p:cNvPr id="104" name="PlaceHolder 2"/>
          <p:cNvSpPr>
            <a:spLocks noGrp="1"/>
          </p:cNvSpPr>
          <p:nvPr>
            <p:ph/>
          </p:nvPr>
        </p:nvSpPr>
        <p:spPr>
          <a:xfrm>
            <a:off x="1066680" y="1600200"/>
            <a:ext cx="8229600" cy="556272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ntroduce Web 2.0 technologies</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roblem solve ways to integrate technology meaningfully and more efficiently</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ush ourselves down the Technology Integration Continuu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Find ways to Implement Technologies that Compliment what is already happening in the classroo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 Wikispaces Account</a:t>
            </a:r>
            <a:endParaRPr b="0" lang="en-US" sz="4800" spc="-1" strike="noStrike">
              <a:solidFill>
                <a:srgbClr val="542f79"/>
              </a:solidFill>
              <a:latin typeface="Arial"/>
            </a:endParaRPr>
          </a:p>
        </p:txBody>
      </p:sp>
      <p:sp>
        <p:nvSpPr>
          <p:cNvPr id="106" name="PlaceHolder 2"/>
          <p:cNvSpPr>
            <a:spLocks noGrp="1"/>
          </p:cNvSpPr>
          <p:nvPr>
            <p:ph/>
          </p:nvPr>
        </p:nvSpPr>
        <p:spPr>
          <a:xfrm>
            <a:off x="4495320" y="1905120"/>
            <a:ext cx="418788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teacherdolphin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kispaces.com</a:t>
            </a: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gn Up for a wikispace using the  K-12 link</a:t>
            </a:r>
            <a:endParaRPr b="0" lang="en-US" sz="2500" spc="-1" strike="noStrike">
              <a:solidFill>
                <a:srgbClr val="000000"/>
              </a:solidFill>
              <a:latin typeface="Verdana"/>
            </a:endParaRPr>
          </a:p>
        </p:txBody>
      </p:sp>
      <p:pic>
        <p:nvPicPr>
          <p:cNvPr id="107" name="" descr=""/>
          <p:cNvPicPr/>
          <p:nvPr/>
        </p:nvPicPr>
        <p:blipFill>
          <a:blip r:embed="rId1"/>
          <a:stretch/>
        </p:blipFill>
        <p:spPr>
          <a:xfrm rot="20886000">
            <a:off x="533160" y="2285640"/>
            <a:ext cx="3963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Big “Ah-ha(s)”</a:t>
            </a:r>
            <a:endParaRPr b="0" lang="en-US" sz="4800" spc="-1" strike="noStrike">
              <a:solidFill>
                <a:srgbClr val="542f79"/>
              </a:solidFill>
              <a:latin typeface="Arial"/>
            </a:endParaRPr>
          </a:p>
        </p:txBody>
      </p:sp>
      <p:sp>
        <p:nvSpPr>
          <p:cNvPr id="109"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w in the 21</a:t>
            </a:r>
            <a:r>
              <a:rPr b="0" lang="en-US" sz="2500" spc="-1" strike="noStrike" baseline="30000">
                <a:solidFill>
                  <a:srgbClr val="000000"/>
                </a:solidFill>
                <a:latin typeface="Verdana"/>
              </a:rPr>
              <a:t>st</a:t>
            </a:r>
            <a:r>
              <a:rPr b="0" lang="en-US" sz="2500" spc="-1" strike="noStrike">
                <a:solidFill>
                  <a:srgbClr val="000000"/>
                </a:solidFill>
                <a:latin typeface="Verdana"/>
              </a:rPr>
              <a:t> Century…this means something! Every child in our school today was born into a technological, digital world. I was not. I am a digital immigrant; they are digital native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t preparing students to live in the world we were born into, the world we were raised in, or the world we were educated in.  Our reality is not their reality. It is my job to prepare them to be </a:t>
            </a:r>
            <a:r>
              <a:rPr b="1" lang="en-US" sz="2500" spc="-1" strike="noStrike">
                <a:solidFill>
                  <a:srgbClr val="000000"/>
                </a:solidFill>
                <a:latin typeface="Verdana"/>
              </a:rPr>
              <a:t>flexible problem-solvers</a:t>
            </a:r>
            <a:r>
              <a:rPr b="0" lang="en-US" sz="2500" spc="-1" strike="noStrike">
                <a:solidFill>
                  <a:srgbClr val="000000"/>
                </a:solidFill>
                <a:latin typeface="Verdana"/>
              </a:rPr>
              <a:t> and </a:t>
            </a:r>
            <a:r>
              <a:rPr b="1" lang="en-US" sz="2500" spc="-1" strike="noStrike">
                <a:solidFill>
                  <a:srgbClr val="000000"/>
                </a:solidFill>
                <a:latin typeface="Verdana"/>
              </a:rPr>
              <a:t>collaborators</a:t>
            </a:r>
            <a:r>
              <a:rPr b="0" lang="en-US" sz="2500" spc="-1" strike="noStrike">
                <a:solidFill>
                  <a:srgbClr val="000000"/>
                </a:solidFill>
                <a:latin typeface="Verdana"/>
              </a:rPr>
              <a:t> in this unpredictable fu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533520"/>
            <a:ext cx="7313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t>
            </a:r>
            <a:r>
              <a:rPr b="1" lang="en-US" sz="4800" spc="-1" strike="noStrike">
                <a:solidFill>
                  <a:srgbClr val="542f79"/>
                </a:solidFill>
                <a:latin typeface="Arial"/>
              </a:rPr>
              <a:t>Did You Know” </a:t>
            </a:r>
            <a:br>
              <a:rPr sz="4800"/>
            </a:b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Karl Fisch</a:t>
            </a:r>
            <a:endParaRPr b="0" lang="en-US" sz="4800" spc="-1" strike="noStrike">
              <a:solidFill>
                <a:srgbClr val="542f79"/>
              </a:solidFill>
              <a:latin typeface="Arial"/>
            </a:endParaRPr>
          </a:p>
        </p:txBody>
      </p:sp>
      <p:sp>
        <p:nvSpPr>
          <p:cNvPr id="111" name=""/>
          <p:cNvSpPr/>
          <p:nvPr/>
        </p:nvSpPr>
        <p:spPr>
          <a:xfrm>
            <a:off x="990720" y="26668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thefischbowl.blogspo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3"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OCS Instructional Technology Vision</a:t>
            </a:r>
            <a:endParaRPr b="0" lang="en-US" sz="4400" spc="-1" strike="noStrike">
              <a:solidFill>
                <a:srgbClr val="542f79"/>
              </a:solidFill>
              <a:latin typeface="Arial"/>
            </a:endParaRPr>
          </a:p>
        </p:txBody>
      </p:sp>
      <p:sp>
        <p:nvSpPr>
          <p:cNvPr id="115" name="PlaceHolder 2"/>
          <p:cNvSpPr>
            <a:spLocks noGrp="1"/>
          </p:cNvSpPr>
          <p:nvPr>
            <p:ph/>
          </p:nvPr>
        </p:nvSpPr>
        <p:spPr>
          <a:xfrm>
            <a:off x="912960" y="2436840"/>
            <a:ext cx="8231040" cy="4573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believe that technology nurtures and</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owers the development of students to</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come </a:t>
            </a:r>
            <a:r>
              <a:rPr b="1" lang="en-US" sz="2100" spc="-1" strike="noStrike">
                <a:solidFill>
                  <a:srgbClr val="000000"/>
                </a:solidFill>
                <a:latin typeface="Verdana"/>
              </a:rPr>
              <a:t>self-directed learners; complex</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ers; quality producers; collaborative</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orkers;</a:t>
            </a:r>
            <a:r>
              <a:rPr b="0" lang="en-US" sz="2100" spc="-1" strike="noStrike">
                <a:solidFill>
                  <a:srgbClr val="000000"/>
                </a:solidFill>
                <a:latin typeface="Verdana"/>
              </a:rPr>
              <a:t> and </a:t>
            </a:r>
            <a:r>
              <a:rPr b="1" lang="en-US" sz="2100" spc="-1" strike="noStrike">
                <a:solidFill>
                  <a:srgbClr val="000000"/>
                </a:solidFill>
                <a:latin typeface="Verdana"/>
              </a:rPr>
              <a:t>community contributor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vision for technology is th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udents, staff and parents will </a:t>
            </a:r>
            <a:r>
              <a:rPr b="1" i="1" lang="en-US" sz="2100" spc="-1" strike="noStrike">
                <a:solidFill>
                  <a:srgbClr val="000000"/>
                </a:solidFill>
                <a:latin typeface="Verdana"/>
              </a:rPr>
              <a:t>prosper in</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 global community using technology as a</a:t>
            </a:r>
            <a:endParaRPr b="0" lang="en-US" sz="21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tool for teaching, learning, and managing</a:t>
            </a:r>
            <a:r>
              <a:rPr b="0" i="1" lang="en-US" sz="21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02T16:39:57Z</dcterms:modified>
  <cp:revision>16</cp:revision>
  <dc:subject/>
  <dc:title>Slide 1</dc:title>
</cp:coreProperties>
</file>